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DE6-C8B9-4F8F-92DB-CC2780D1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B2E-D4BF-4207-89AD-04FC9F4D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C5B-573F-46AC-82F5-110C00FE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DD3-6092-41F6-B119-C6D34DCB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FC0-0C2B-45A0-8C02-F12C0052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588-DF19-4048-A5A6-B5D6FC46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A82-2E55-43AE-A0B3-A9149568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C18-D1FF-423F-AA16-446CC9C3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FF7-CC3F-470B-A5EA-FB7A8EFA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6F0-2291-4014-9C6E-A97BAA3A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38E-A4B5-45AE-BFFF-6EBB166C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A41-61F4-4980-B182-8655FFF6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6D38-1BBE-477D-9A93-4A3A93E1D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40360" y="333360"/>
            <a:ext cx="5003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eaeaea"/>
                </a:solidFill>
                <a:latin typeface="comic"/>
              </a:rPr>
              <a:t>24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оже наш, ний Теб се молим: Дай ни успех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Против злото да се борим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Ти молбата ни да чуеш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с сполука увенчаеш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Дай ни усп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24360" y="189000"/>
            <a:ext cx="5219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Таз молба ние ще повторим: 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стината да говорим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Както на светиите в древност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 Ти служим ние със ревност, дай ни усп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0" y="6480"/>
            <a:ext cx="9142560" cy="6845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356000" cy="69181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стоянно да се молим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еуморно да се трудим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подвизи непостижим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ъс Духа Си подкрепи ни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 ни успех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20:44:47Z</dcterms:created>
  <dc:creator>TrifonTrifonow</dc:creator>
  <dc:description/>
  <dc:language>en-US</dc:language>
  <cp:lastModifiedBy>TrifonTrifonow</cp:lastModifiedBy>
  <dcterms:modified xsi:type="dcterms:W3CDTF">2005-12-01T21:01:18Z</dcterms:modified>
  <cp:revision>8</cp:revision>
  <dc:subject/>
  <dc:title>Slide 1</dc:title>
</cp:coreProperties>
</file>